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BF00-E4D6-4797-83E6-719F3742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D174-CE42-40DF-9014-AE24BAF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EE14-2117-4F2D-9BF0-3E0E5B7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0DA7-CA54-42B9-B318-84159B2F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E947-B481-4AD9-AF96-96697619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695C-5657-42F2-91DC-6B62287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73C5-F271-4C5B-900B-45BE28F0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6F7A-55BB-465B-B244-5410B7CC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3FF-E013-45B8-9C22-84A779E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21EE-654E-4F04-B06A-317EA5F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E864-454D-49EE-8362-42D2E37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89BF-C809-4FCB-B016-FAB3AD46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A257-6D1E-4BE3-8916-B6B24451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76B-2DD6-45DE-BDEA-F697BBD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BA5C-5BC4-4D90-9B34-D367216A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A853-DCF0-4427-BB23-BB495ABC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3A6-9BC6-4F91-A72B-1F67E2A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2064-2937-4766-81A6-3AB276C9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CFFE8-386B-4919-8AA9-462E585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32B6-F56B-471C-AEAC-BB7904A8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CA23-1458-4886-BFE3-90CCCB4A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D716-4BFA-4D5A-985C-D1CBC4E1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FA83-83A5-4C64-91FE-6D44E0D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B08B-BB2C-405A-97E6-798C205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0CD-CE4D-4F44-BC8E-F36BC23727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203-F4CC-49DE-A897-F8719651D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0E35-3EEC-4EF0-BB50-6FEC4A79A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F22-F96C-4D9B-AE49-4247E815F2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rhitectura Microprocesoarelor I</a:t>
            </a:r>
            <a:br>
              <a:rPr sz="4600"/>
            </a:br>
            <a:br>
              <a:rPr sz="2000"/>
            </a:b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O structura tipică d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P pe 8 biţi de uz general 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  <a:ea typeface="Arial"/>
              </a:rPr>
              <a:t>P8U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.Dr.Ing. Mihaela IONI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Ţ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844A-FAF9-499C-97CF-0E6C3EE5DE2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59276A-847C-4F41-B154-A8658C37199F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ia unei instrucţiuni presupune mai multe etape, iar fiecare etapă este compusă la rândul ei din mai multe acţiuni element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0000ff"/>
                </a:solidFill>
                <a:latin typeface="Arial"/>
              </a:rPr>
              <a:t>Fetch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localizarea şi aducerea din memorie a codului instrucţiunii cure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ncărcarea în RA a adresei furnizate de PC; adr. disponibilă pe magistrala de adr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crementarea P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mnal de citire din memorie (READ) pe magistrala de contr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 pe magistrala externă de date se înscrie valoarea în 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valoarea codului din RD este înscrisă în registrul de instrucţiuni R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Decodificar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conţinutul RI individualizează instrucţiunea şi declanşează o secvenţă de acţiuni elementare pentru execuţ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Execuţi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activarea diverselor blocuri din UCP într-o ordine prestabilită şi/sau schimburi de informaţii cu memoria/portur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ff"/>
                </a:solidFill>
                <a:latin typeface="Arial"/>
              </a:rPr>
              <a:t>Unitatea de control a adresării memoriei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ste un bloc special care asigură desfăşurarea în timp a instrucţiunil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μP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trebuie să decidă în funcţie de codul primit care este </a:t>
            </a:r>
            <a:r>
              <a:rPr b="0" lang="ro-RO" sz="1600" spc="-1" strike="noStrike">
                <a:solidFill>
                  <a:srgbClr val="0000ff"/>
                </a:solidFill>
                <a:latin typeface="Arial"/>
              </a:rPr>
              <a:t>formatul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instrucţiunii curente (desfăşurarea pe locaţii de memorie succesive, imediat după cod, a întregii informaţii aferente execuţiei corecte a instrucţiunii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5 de detaliere:</a:t>
            </a:r>
            <a:br>
              <a:rPr sz="20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tea de control al μ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U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μ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22C6-1540-4852-BC90-C2CA60033C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B29F67-8624-402F-AAA2-E9CEE40E8B04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5 de detaliere:</a:t>
            </a:r>
            <a:br>
              <a:rPr sz="20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tea de control al μ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844720"/>
            <a:ext cx="4800600" cy="325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191040" y="3162240"/>
            <a:ext cx="5572080" cy="3162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1752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Stare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corespunde duratei fizice a unei perioade de tact, este durata de efectuare a unei acţiuni elem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Ciclul maşin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corespunde unei grupări de mai multe acţiuni elementare astfel încât să ducă la realizarea unei etape bine definite din desfăşurarea unei instrucţiu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8598-175C-4BCF-BC8D-2B76AF8095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231715-7912-41B6-A953-53ED01252AB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servaţie asupra structurii unui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icroprocesor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143080"/>
            <a:ext cx="5486400" cy="31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4398-14D9-4D66-8FC5-8F4BE6E5F3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D902D-ED3D-4D19-BD8F-6509162BC1B5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743200"/>
            <a:ext cx="2286000" cy="21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Tema prelegerii viito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3276360" cy="3353040"/>
          </a:xfrm>
          <a:prstGeom prst="rect">
            <a:avLst/>
          </a:prstGeom>
          <a:solidFill>
            <a:srgbClr val="ffebeb">
              <a:alpha val="50000"/>
            </a:srgbClr>
          </a:solidFill>
          <a:ln w="19080">
            <a:solidFill>
              <a:srgbClr val="993300"/>
            </a:solidFill>
            <a:miter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Dezvoltarea funcţională a unui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 pe 16 biţi de uz gen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rea funcţională a unu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16UG ti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Structura registr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ganizarea memoriei microcalculato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413160" y="2209680"/>
            <a:ext cx="5730840" cy="3276720"/>
            <a:chOff x="3413160" y="2209680"/>
            <a:chExt cx="5730840" cy="3276720"/>
          </a:xfrm>
        </p:grpSpPr>
        <p:sp>
          <p:nvSpPr>
            <p:cNvPr id="172" name=""/>
            <p:cNvSpPr/>
            <p:nvPr/>
          </p:nvSpPr>
          <p:spPr>
            <a:xfrm>
              <a:off x="3794040" y="3809880"/>
              <a:ext cx="3908520" cy="2095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6920" y="2209680"/>
              <a:ext cx="2362320" cy="160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Aplicaţi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(ex. Netscape, Matlab, Wor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73640" y="2666880"/>
              <a:ext cx="2019240" cy="1143000"/>
            </a:xfrm>
            <a:prstGeom prst="rect">
              <a:avLst/>
            </a:prstGeom>
            <a:solidFill>
              <a:srgbClr val="ebffeb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Sisteme de ope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(ex. Unix, Window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26000" y="3124080"/>
              <a:ext cx="1425600" cy="279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Arial"/>
                </a:rPr>
                <a:t>Compilato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9760" y="3468600"/>
              <a:ext cx="142416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Arial"/>
                </a:rPr>
                <a:t>Asamblo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2560" y="4019400"/>
              <a:ext cx="115740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Proce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49960" y="4019400"/>
              <a:ext cx="89856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Memo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48520" y="4019400"/>
              <a:ext cx="122688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993300"/>
                  </a:solidFill>
                  <a:latin typeface="Arial"/>
                </a:rPr>
                <a:t>Dispozitive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 I/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62360" y="4308480"/>
              <a:ext cx="2365560" cy="28080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Magistrale de date şi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83200" y="4608360"/>
              <a:ext cx="1677960" cy="279360"/>
            </a:xfrm>
            <a:prstGeom prst="rect">
              <a:avLst/>
            </a:prstGeom>
            <a:solidFill>
              <a:srgbClr val="ffead5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Proiectare digital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87800" y="4897440"/>
              <a:ext cx="1882800" cy="280800"/>
            </a:xfrm>
            <a:prstGeom prst="rect">
              <a:avLst/>
            </a:prstGeom>
            <a:solidFill>
              <a:srgbClr val="ffead5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Proiectarea circuite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2160" y="5187960"/>
              <a:ext cx="2279520" cy="279360"/>
            </a:xfrm>
            <a:prstGeom prst="rect">
              <a:avLst/>
            </a:prstGeom>
            <a:solidFill>
              <a:srgbClr val="fff9f3"/>
            </a:solidFill>
            <a:ln w="190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66"/>
                  </a:solidFill>
                  <a:latin typeface="Arial"/>
                </a:rPr>
                <a:t>Tranzistoare, </a:t>
              </a:r>
              <a:r>
                <a:rPr b="0" i="1" lang="en-US" sz="1200" spc="-1" strike="noStrike">
                  <a:solidFill>
                    <a:srgbClr val="ff9966"/>
                  </a:solidFill>
                  <a:latin typeface="Arial"/>
                </a:rPr>
                <a:t>Layout-</a:t>
              </a:r>
              <a:r>
                <a:rPr b="0" lang="en-US" sz="1200" spc="-1" strike="noStrike">
                  <a:solidFill>
                    <a:srgbClr val="ff9966"/>
                  </a:solidFill>
                  <a:latin typeface="Arial"/>
                </a:rPr>
                <a:t>ul 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13320" y="2314440"/>
              <a:ext cx="485640" cy="1495440"/>
              <a:chOff x="3613320" y="2314440"/>
              <a:chExt cx="485640" cy="149544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4098960" y="2895480"/>
                <a:ext cx="0" cy="914400"/>
              </a:xfrm>
              <a:prstGeom prst="line">
                <a:avLst/>
              </a:prstGeom>
              <a:ln w="572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5400000">
                <a:off x="3060360" y="2867040"/>
                <a:ext cx="1419480" cy="313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 Black"/>
                  </a:rPr>
                  <a:t>SOFTWARE</a:t>
                </a:r>
                <a:endPara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632400" y="4038480"/>
              <a:ext cx="466560" cy="1447920"/>
              <a:chOff x="3632400" y="4038480"/>
              <a:chExt cx="466560" cy="1447920"/>
            </a:xfrm>
          </p:grpSpPr>
          <p:sp>
            <p:nvSpPr>
              <p:cNvPr id="188" name=""/>
              <p:cNvSpPr/>
              <p:nvPr/>
            </p:nvSpPr>
            <p:spPr>
              <a:xfrm>
                <a:off x="4098960" y="4038480"/>
                <a:ext cx="0" cy="990720"/>
              </a:xfrm>
              <a:prstGeom prst="line">
                <a:avLst/>
              </a:prstGeom>
              <a:ln w="572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 rot="5400000">
                <a:off x="3079800" y="4619880"/>
                <a:ext cx="1419120" cy="313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 Black"/>
                  </a:rPr>
                  <a:t>HARDWARE</a:t>
                </a:r>
                <a:endPara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451640" y="2895480"/>
              <a:ext cx="169236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Aspecte influen</a:t>
              </a:r>
              <a:r>
                <a:rPr b="0" lang="ro-RO" sz="1400" spc="-1" strike="noStrike">
                  <a:solidFill>
                    <a:srgbClr val="9999ff"/>
                  </a:solidFill>
                  <a:latin typeface="Arial"/>
                </a:rPr>
                <a:t>ţ</a:t>
              </a: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ate de </a:t>
              </a:r>
              <a:r>
                <a:rPr b="0" lang="ro-RO" sz="1400" spc="-1" strike="noStrike">
                  <a:solidFill>
                    <a:srgbClr val="9999ff"/>
                  </a:solidFill>
                  <a:latin typeface="Arial"/>
                </a:rPr>
                <a:t>arhitectura setului de instrucţiuni</a:t>
              </a: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13160" y="3429000"/>
              <a:ext cx="4800600" cy="1447560"/>
            </a:xfrm>
            <a:prstGeom prst="ellipse">
              <a:avLst/>
            </a:prstGeom>
            <a:solidFill>
              <a:srgbClr val="e5e5ff">
                <a:alpha val="50000"/>
              </a:srgbClr>
            </a:solidFill>
            <a:ln w="9360">
              <a:solidFill>
                <a:srgbClr val="bf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32880" y="4114800"/>
              <a:ext cx="609480" cy="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H="1" flipV="1">
            <a:off x="3276720" y="3048120"/>
            <a:ext cx="2209680" cy="1218960"/>
          </a:xfrm>
          <a:prstGeom prst="line">
            <a:avLst/>
          </a:prstGeom>
          <a:ln w="76320">
            <a:solidFill>
              <a:srgbClr val="c59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FFB5-A152-48A5-AF47-06564B201D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59B195-236D-4405-A7BC-8E29AA959E52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2743200"/>
            <a:ext cx="2286000" cy="21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structura tipică 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 pe 8 biţi de uz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3276360" cy="3353040"/>
          </a:xfrm>
          <a:prstGeom prst="rect">
            <a:avLst/>
          </a:prstGeom>
          <a:solidFill>
            <a:srgbClr val="ffebeb">
              <a:alpha val="50000"/>
            </a:srgbClr>
          </a:solidFill>
          <a:ln w="19080">
            <a:solidFill>
              <a:srgbClr val="993300"/>
            </a:solidFill>
            <a:miter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strul de date şi registrul de adr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Registrele 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itatea aritmetică de proces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itatea de control a adresării memor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itatea de control al μ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413160" y="2209680"/>
            <a:ext cx="5730840" cy="3276720"/>
            <a:chOff x="3413160" y="2209680"/>
            <a:chExt cx="5730840" cy="3276720"/>
          </a:xfrm>
        </p:grpSpPr>
        <p:sp>
          <p:nvSpPr>
            <p:cNvPr id="112" name=""/>
            <p:cNvSpPr/>
            <p:nvPr/>
          </p:nvSpPr>
          <p:spPr>
            <a:xfrm>
              <a:off x="3794040" y="3809880"/>
              <a:ext cx="3908520" cy="2095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6920" y="2209680"/>
              <a:ext cx="2362320" cy="16002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Aplicaţi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</a:rPr>
                <a:t>(ex. Netscape, Matlab, Wor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3640" y="2666880"/>
              <a:ext cx="2019240" cy="1143000"/>
            </a:xfrm>
            <a:prstGeom prst="rect">
              <a:avLst/>
            </a:prstGeom>
            <a:solidFill>
              <a:srgbClr val="ebffeb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Sisteme de oper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(ex. Unix, Window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26000" y="3124080"/>
              <a:ext cx="1425600" cy="279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Arial"/>
                </a:rPr>
                <a:t>Compilato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9760" y="3468600"/>
              <a:ext cx="1424160" cy="29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Arial"/>
                </a:rPr>
                <a:t>Asamblo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2560" y="4019400"/>
              <a:ext cx="115740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Proces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49960" y="4019400"/>
              <a:ext cx="89856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Memo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8520" y="4019400"/>
              <a:ext cx="1226880" cy="27936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993300"/>
                  </a:solidFill>
                  <a:latin typeface="Arial"/>
                </a:rPr>
                <a:t>Dispozitive</a:t>
              </a: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 I/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2360" y="4308480"/>
              <a:ext cx="2365560" cy="280800"/>
            </a:xfrm>
            <a:prstGeom prst="rect">
              <a:avLst/>
            </a:prstGeom>
            <a:solidFill>
              <a:srgbClr val="ffe2c5"/>
            </a:solidFill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Magistrale de date şi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83200" y="4608360"/>
              <a:ext cx="1677960" cy="279360"/>
            </a:xfrm>
            <a:prstGeom prst="rect">
              <a:avLst/>
            </a:prstGeom>
            <a:solidFill>
              <a:srgbClr val="ffead5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Proiectare digital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7800" y="4897440"/>
              <a:ext cx="1882800" cy="280800"/>
            </a:xfrm>
            <a:prstGeom prst="rect">
              <a:avLst/>
            </a:prstGeom>
            <a:solidFill>
              <a:srgbClr val="ffead5"/>
            </a:solidFill>
            <a:ln w="190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Proiectarea circuite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72160" y="5187960"/>
              <a:ext cx="2279520" cy="279360"/>
            </a:xfrm>
            <a:prstGeom prst="rect">
              <a:avLst/>
            </a:prstGeom>
            <a:solidFill>
              <a:srgbClr val="fff9f3"/>
            </a:solidFill>
            <a:ln w="190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66"/>
                  </a:solidFill>
                  <a:latin typeface="Arial"/>
                </a:rPr>
                <a:t>Tranzistoare, </a:t>
              </a:r>
              <a:r>
                <a:rPr b="0" i="1" lang="en-US" sz="1200" spc="-1" strike="noStrike">
                  <a:solidFill>
                    <a:srgbClr val="ff9966"/>
                  </a:solidFill>
                  <a:latin typeface="Arial"/>
                </a:rPr>
                <a:t>Layout-</a:t>
              </a:r>
              <a:r>
                <a:rPr b="0" lang="en-US" sz="1200" spc="-1" strike="noStrike">
                  <a:solidFill>
                    <a:srgbClr val="ff9966"/>
                  </a:solidFill>
                  <a:latin typeface="Arial"/>
                </a:rPr>
                <a:t>ul 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613320" y="2314440"/>
              <a:ext cx="485640" cy="1495440"/>
              <a:chOff x="3613320" y="2314440"/>
              <a:chExt cx="485640" cy="149544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4098960" y="2895480"/>
                <a:ext cx="0" cy="914400"/>
              </a:xfrm>
              <a:prstGeom prst="line">
                <a:avLst/>
              </a:prstGeom>
              <a:ln w="572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 rot="5400000">
                <a:off x="3060360" y="2867040"/>
                <a:ext cx="1419480" cy="313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 Black"/>
                  </a:rPr>
                  <a:t>SOFTWARE</a:t>
                </a:r>
                <a:endPara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632400" y="4038480"/>
              <a:ext cx="466560" cy="1447920"/>
              <a:chOff x="3632400" y="4038480"/>
              <a:chExt cx="466560" cy="1447920"/>
            </a:xfrm>
          </p:grpSpPr>
          <p:sp>
            <p:nvSpPr>
              <p:cNvPr id="128" name=""/>
              <p:cNvSpPr/>
              <p:nvPr/>
            </p:nvSpPr>
            <p:spPr>
              <a:xfrm>
                <a:off x="4098960" y="4038480"/>
                <a:ext cx="0" cy="990720"/>
              </a:xfrm>
              <a:prstGeom prst="line">
                <a:avLst/>
              </a:prstGeom>
              <a:ln w="5724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 rot="5400000">
                <a:off x="3079800" y="4619880"/>
                <a:ext cx="1419120" cy="313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3333cc"/>
                      </a:solidFill>
                      <a:miter/>
                    </a:ln>
                    <a:solidFill>
                      <a:srgbClr val="b2b2b2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Arial Black"/>
                  </a:rPr>
                  <a:t>HARDWARE</a:t>
                </a:r>
                <a:endPara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7451640" y="2895480"/>
              <a:ext cx="169236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Aspecte influen</a:t>
              </a:r>
              <a:r>
                <a:rPr b="0" lang="ro-RO" sz="1400" spc="-1" strike="noStrike">
                  <a:solidFill>
                    <a:srgbClr val="9999ff"/>
                  </a:solidFill>
                  <a:latin typeface="Arial"/>
                </a:rPr>
                <a:t>ţ</a:t>
              </a: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ate de </a:t>
              </a:r>
              <a:r>
                <a:rPr b="0" lang="ro-RO" sz="1400" spc="-1" strike="noStrike">
                  <a:solidFill>
                    <a:srgbClr val="9999ff"/>
                  </a:solidFill>
                  <a:latin typeface="Arial"/>
                </a:rPr>
                <a:t>arhitectura setului de instrucţiuni</a:t>
              </a:r>
              <a:r>
                <a:rPr b="0" lang="en-US" sz="1400" spc="-1" strike="noStrike">
                  <a:solidFill>
                    <a:srgbClr val="9999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3160" y="3429000"/>
              <a:ext cx="4800600" cy="1447560"/>
            </a:xfrm>
            <a:prstGeom prst="ellipse">
              <a:avLst/>
            </a:prstGeom>
            <a:solidFill>
              <a:srgbClr val="e5e5ff">
                <a:alpha val="50000"/>
              </a:srgbClr>
            </a:solidFill>
            <a:ln w="9360">
              <a:solidFill>
                <a:srgbClr val="bfb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32880" y="4114800"/>
              <a:ext cx="609480" cy="0"/>
            </a:xfrm>
            <a:prstGeom prst="line">
              <a:avLst/>
            </a:prstGeom>
            <a:ln w="57240">
              <a:solidFill>
                <a:srgbClr val="99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 flipV="1">
            <a:off x="3047760" y="3962520"/>
            <a:ext cx="2438280" cy="304560"/>
          </a:xfrm>
          <a:prstGeom prst="line">
            <a:avLst/>
          </a:prstGeom>
          <a:ln w="76320">
            <a:solidFill>
              <a:srgbClr val="c59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B3F0-A07F-4E2C-A26E-87788E2AD0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BBE385-98D1-480A-A2EA-48713A7426EA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ubiec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structura tipică d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 pe 8 biţi de uz general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8U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Registrul de date şi registrul de adr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Registrele gene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Unitatea aritmetică de proces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cumulator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Unitatea aritmetico-logi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Fanioan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istrul de deplas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Unitatea de control a adresării memori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Numărătorul d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Indicatorul curent de stiv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Noţiuni implicate: Adresarea liniară a memoriei, Adresă fizic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Unitatea de control al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Desfăşurarea în timp a instrucţiuni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6840" y="2514600"/>
            <a:ext cx="438840" cy="2971800"/>
          </a:xfrm>
          <a:prstGeom prst="downArrow">
            <a:avLst>
              <a:gd name="adj1" fmla="val 50000"/>
              <a:gd name="adj2" fmla="val 169299"/>
            </a:avLst>
          </a:prstGeom>
          <a:solidFill>
            <a:srgbClr val="cccce6"/>
          </a:solidFill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 vert="eaVert">
            <a:spAutoFit/>
          </a:bodyPr>
          <a:p>
            <a:pPr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TAL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3490-A98A-49D9-A494-F96CCBF212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E1334-5C56-452B-8DE2-3C536205FB0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1 de detaliere: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gistrul de date şi registrul de ad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5248080" cy="3343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3276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gistrul de date (RD) şi registrul de adrese (RA) apar la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interfaţ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UCP cu magistrala de date şi de adre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RD :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O informaţie provenită din interiorul UCP şi înscrisă în RD este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diponibil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tuturor componentelor microcalculatorului legate la această magistral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cesul este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bidirecţiona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a şi magistrala pe care o deserveş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mensiunea RD este egală cu lăţimea magistralei de date –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8 biţi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pentru μP8U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5029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RA :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Menţine o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dresă furnizat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de UCP cât timp este necesar să se facă localizarea corectă  a unei informaţii în memorie sau în porturile de intrare/ieş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cesul este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unidirecţiona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mensiunea RA este impusă de elemente din interiorul UCP (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UCA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– bloc discutat ulterio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D2E3-88AA-442D-B465-346E43094C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32AD67-F3FC-4940-B9D5-9D88CABCB3E6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2 de detaliere: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gistrele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24280" y="1630440"/>
            <a:ext cx="5014800" cy="2941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Indiferent de tip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un microprocesor standard are un set de registre interne cu destinaţie general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gistrele interne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u rolul de a stoca temporar datel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operanzi, rezultate) reprezentând nivelul de memorie cel mai rapid adresabil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şi lungimea acestor registre generale constituie un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criteriu de performanţ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tul de registre generale este un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tribut tipic de arhitectur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egătura internă între RD şi setul de registre generale se asigură prin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magistrala internă de da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are este prelungirea magistralei de date a microcalculatorului în interiorul microprocesorulu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a magistrala internă de date se leagă toate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blocurile intern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are trebuie să aibă acces la informaţia care circulă pe magistrala externă de date (operanzi/rezultate, coduri de instrucţiuni, adre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ăţimea magistralei de date este un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criteriu de performanţ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 microprocesorului, nu în mod necesar este egală cu cea externă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4845-E83B-41FF-9345-44E300BE11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90502A-BBF6-4A42-A167-5F8F11AD1808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3200" y="1854360"/>
            <a:ext cx="6029280" cy="4089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AP – constituie </a:t>
            </a:r>
            <a:r>
              <a:rPr b="0" lang="ro-RO" sz="1600" spc="-1" strike="noStrike">
                <a:solidFill>
                  <a:srgbClr val="0000ff"/>
                </a:solidFill>
                <a:latin typeface="Arial"/>
              </a:rPr>
              <a:t>suportul activităţii de prelucrare a datelor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pe care o execută microprocesoru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AP are mai multe </a:t>
            </a:r>
            <a:r>
              <a:rPr b="0" lang="ro-RO" sz="1600" spc="-1" strike="noStrike">
                <a:solidFill>
                  <a:srgbClr val="0000ff"/>
                </a:solidFill>
                <a:latin typeface="Arial"/>
              </a:rPr>
              <a:t>blocuri compon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tatea aritmetico-logic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umulatoru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anioane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gistrul de deplas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3 de detaliere: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Unitatea aritmetică de procesare (UAP) 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1/2)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66E6-453C-47EA-927F-7D29F89028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9D1A6-E50D-4CC3-B2D7-705927603DB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160" y="1447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Unitatea aritmetico-logic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este un circuit combinaţional care permite realizarea mai multor funcţii standar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ncţii aritmetice: adunare, scădere, complementare faţă de 2, incrementare, decrement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ncţii logice: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, complementare faţă d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pul şi numărul funcţiilor constituie un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criteriu de performanţ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 microprocesorului. Funcţiile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se reflectă în subsetul de instrucţiuni de prelucrare a datelor, dimensiunea operanzilor este în acord cu lăţimea magistralei interne de d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cumulatoru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este un registru asemănător cu cele din setul general de registre, el conţine un operand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şi după efectuarea operaţiei rezultatu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Fanioanel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reprezintă o serie de celule de memorare a unor condiţiii speciale apărute în funcţionarea microprocesorului, în special a unităţii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 Secvenţele de program ce conţin etape de decizie testează valoarea fanioane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3 de detaliere: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Unitatea aritmetică de procesare (UAP) 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2/2)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05480" y="4226040"/>
            <a:ext cx="3852720" cy="2174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4267080"/>
            <a:ext cx="4495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Registrul de deplasar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prezintă un bloc important deoarece operaţiile de deplasare stânga şi dreapta semnifică înmulţiri, respectiv împărţiri cu puteri ale lui do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puri de operaţii realiza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plasări logice sau aritmetice (ex. 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otaţii cu / fară fanionul de transport (ex. b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BF8E-3F49-401E-A85F-5F4E9CC094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D0EE8D-AC1A-4348-859C-255BB9DDAE23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tatea de control a adresării memoriei are drept scop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încărcarea unei adrese în RA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pentru localizarea unei informaţii specifice în memo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Funcţii principal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le UCA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dresarea instrucţiunil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în memoria de program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- Secveţial (adrese ce corespund succesiunii implicite a instrucţiuni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- Adrese determinate prin decizii de sa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as 4 de detaliere: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tea de control al adresării memorie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UCAM)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05120" y="1447920"/>
            <a:ext cx="4829400" cy="3276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41911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dresarea datelo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operanzi şi / sau rezultate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drese precizate pe octeţii imediat următori celor de co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cesarea elementelor unei structuri de date (vectori, matrici); adresa se calculează pe baza adresei de început a structurii şi a poziţiei relative a acelui e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cesarea elementelor din stiv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Numărătorul de program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PC – Program Counter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 conţinutul său determină formarea adresei de memorie care localizează codul instrucţiunii ce urmează a fi executată. Este folosit pentru adresarea secvenţială a instrucţiunilor.  În deciziile de salt valoarea sa se salvează/restaur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ă/suprascrie prin natura instrucţiunilor executate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nu este atribut de arhitectur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8861-2E2E-4B78-AB12-B196A98D48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FD3AC0-3E40-4660-9792-4872474FF1C1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Indicatorul de stiv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SP – Stack pointer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nţinutul său determină formarea adresei de memorie care localizează informaţia stocată în vârful curent al stiv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operaţiile de acces in stiva de date (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push/pop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ctualizează implicit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valoarea registrului SP şi respectă ordinea de acces specifică a structurii de stiv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s 4 de detaliere:</a:t>
            </a:r>
            <a:br>
              <a:rPr sz="20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tea de control al adresării memorie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248000" cy="271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3962520"/>
            <a:ext cx="7924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oţiuni implicate de folosirea UCA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dresarea liniar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a memoriei presupune accesul în memorie în mod continuu pe un interval 0 .. 2</a:t>
            </a:r>
            <a:r>
              <a:rPr b="0" lang="ro-RO" sz="1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unde N este numărul de biţi ai adrese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Adresa fizică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(AF) reprezintă forma sub care se furnizează o adresă pe magistrala de adrese pentru a se face identificarea fizică concretă a locaţiei de memorie vizat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S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=(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mensiunea </a:t>
            </a:r>
            <a:r>
              <a:rPr b="0" lang="ro-RO" sz="1400" spc="-1" strike="noStrike">
                <a:solidFill>
                  <a:srgbClr val="0000ff"/>
                </a:solidFill>
                <a:latin typeface="Arial"/>
              </a:rPr>
              <a:t>spaţiului direct adresabil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tru μP8UG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oare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şi SP au 16 biţi est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o-RO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64Klocaţii memori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rhitectura Microprocesoarelor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162F-6069-4A28-AEF9-F23EC84B57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0301BE-A41C-414D-89FB-E12CAD23837D}" type="datetime1">
              <a:rPr lang="en-US"/>
              <a:t>07/29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7:51:22Z</dcterms:created>
  <dc:creator>blueski</dc:creator>
  <dc:description/>
  <dc:language>en-US</dc:language>
  <cp:lastModifiedBy>gOOgle</cp:lastModifiedBy>
  <dcterms:modified xsi:type="dcterms:W3CDTF">2004-06-07T15:18:29Z</dcterms:modified>
  <cp:revision>322</cp:revision>
  <dc:subject/>
  <dc:title>Arhitectura Microprocesoarelor I</dc:title>
</cp:coreProperties>
</file>